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A6D-4FB0-49E8-A7F7-CA0B2F1A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B93-E591-4D53-A9FC-DC32C46D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99A-6443-4DE5-90A0-AE596CAC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921-34D9-4788-B425-02FA6EC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56D-0165-4D5B-9354-681D741A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688-BF9C-4888-BE64-F3B5CAE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405-E847-4762-9642-5FF5D2B7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B9C-8ABB-4DD2-84F3-028A04D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F8C-D077-483A-976D-48FC4DA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75EB-BBC4-4687-99AA-58CBCFF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6663-DA12-4775-BCC9-EFFF108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DD2-5EC9-4AF5-8B21-5A4B1E8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C6C0-24F3-4FA3-9BCA-5A4B070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0D07-EEB5-48B4-B2E2-66D2D88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C1A7-6D73-4B2B-AD44-6638D47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A71-6BD0-4D1A-8DBE-806C924B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7750-9C7F-4093-8C9C-251037A8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D6D-0FDC-4FEF-B459-954B3D97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585-3FE0-4D22-A755-4132A15A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391-67D9-44B7-9A7A-741BB2BD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FC1-A9EA-4543-A864-45B4F8AD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88-70F1-485D-95FC-271DC84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FAA-FD2D-435B-BBBC-FD06D9B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37A-F5D5-4989-855A-F10EACB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FB4-0659-4C9C-850E-975B871B05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A8F-981D-463C-AC3B-CB5A311BF7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adeaubarlow.com/wp-content/uploads/2011/10/111028-Guillotine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url?sa=i&amp;rct=j&amp;q=telescope&amp;source=images&amp;cd=&amp;cad=rja&amp;docid=APIYkSjZ3xLuqM&amp;tbnid=b9Vl3Iii9Ql2oM:&amp;ved=0CAUQjRw&amp;url=http%3A%2F%2Fwww.robinsdocksideshop.com%2Ftelescopes.htm&amp;ei=i-I5UbaJMoft2wXh-4DoBg&amp;bvm=bv.43287494,d.b2I&amp;psig=AFQjCNHEF1q8k3VI-V5sBFBI6J3Zscpl0w&amp;ust=13628344182690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url?sa=i&amp;rct=j&amp;q=declaration+of+independence&amp;source=images&amp;cd=&amp;cad=rja&amp;docid=eh6WKtQwymDzZM&amp;tbnid=qAwTVvhCWOYa_M:&amp;ved=0CAUQjRw&amp;url=http%3A%2F%2Fmyloc.gov%2FExhibitions%2Fcreatingtheus%2FDeclarationofIndependence%2FBattleJoined%2FExhibitObjects%2FFirstPrintedVersionofDeclarationofIndependence.aspx&amp;ei=VOM5UZjDJ-qy2gWlvICICQ&amp;bvm=bv.43287494,d.b2I&amp;psig=AFQjCNGF4aK6S5mb8tfXTQfkJ0Z89vgesQ&amp;ust=1362834617616656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aw this in your not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se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escription of im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think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Analyze the meaning, make infer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More Stages…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Reform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Scientist studied &amp; published their work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uppress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Catholic Church found scientists like Galileo guilty of heresy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Change Realized: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 Ideas accepted from Scientific Revolution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iors of Sci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s Bacon (English wri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ed those who accepted the Church and Ancients without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iricism – must experiment &amp; obs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rancis_Bacon"/>
          <p:cNvPicPr/>
          <p:nvPr/>
        </p:nvPicPr>
        <p:blipFill>
          <a:blip r:embed="rId1"/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Bacon"/>
          <p:cNvPicPr/>
          <p:nvPr/>
        </p:nvPicPr>
        <p:blipFill>
          <a:blip r:embed="rId2"/>
          <a:stretch/>
        </p:blipFill>
        <p:spPr>
          <a:xfrm>
            <a:off x="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. . 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artes – “I think therefore I a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tific Meth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/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ation required new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2" descr="MMj02347030000[1]"/>
          <p:cNvPicPr/>
          <p:nvPr/>
        </p:nvPicPr>
        <p:blipFill>
          <a:blip r:embed="rId1"/>
          <a:stretch/>
        </p:blipFill>
        <p:spPr>
          <a:xfrm>
            <a:off x="7620120" y="54100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ientific Met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&amp; 6 = “Scientific Method” 6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&amp; 5 = “Newton explains . . .” 6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&amp; 4 = “Revolution spreads . . .” 6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the section and pick presen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S: 4-5 bullet point notes (Hea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S: Election Poster for a key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ence takes selected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340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76880" y="1447920"/>
            <a:ext cx="3867120" cy="3867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873600"/>
            <a:ext cx="5105520" cy="298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84760" y="-4428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510552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86728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34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14600" y="3541680"/>
            <a:ext cx="5029200" cy="331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52760" cy="3267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2767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0"/>
            <a:ext cx="5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566892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cc"/>
                </a:solidFill>
                <a:latin typeface="Tahoma"/>
              </a:rPr>
              <a:t>Revolutions</a:t>
            </a:r>
            <a:endParaRPr b="0" lang="en-US" sz="6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Listen to the song and answer the questions on the back of the workshee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624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28600"/>
            <a:ext cx="6172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 want a rev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the worl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tell me that it's ev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the worl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when you talk about destruc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you can count me ou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 got a real sol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'd all love to see the pla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ask me for a contrib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're doing what we ca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when you want money for people with minds that hate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l I can tell you is brother you have to wai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say you'll change the constit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 all want to change your hea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tell me it's the institution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ll you kn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better free your mind instead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t if you go carrying pictures of Chairman Mao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You ain't going to make it with anyone anyhow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't you know know it's gonna be alrigh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right Alright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152280"/>
            <a:ext cx="38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es the band feel about the revolu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you tel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some concerns/issues they hav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is conservative, liberal or too tough to tel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Look at your not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What are the stages of a Revolu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Stag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 Question Status Q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olonies want representatio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Find flaw in status qu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No taxes w/o representatio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Movement to reform (by middle clas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ea Party/Virginia Plan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ontinued…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. Movement to Suppress (by political powe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tolerable Act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. Change is realized: Rev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dependence is declared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. Stages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76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? Status Quo: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? Ancient thinkers &amp; the Catholic Church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spcBef>
                <a:spcPts val="1176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Flaw: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Observation &amp; study showed old assumptions incorrect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0:55:32Z</dcterms:created>
  <dc:creator>Justin Amitage</dc:creator>
  <dc:description/>
  <dc:language>en-US</dc:language>
  <cp:lastModifiedBy>Administrator</cp:lastModifiedBy>
  <dcterms:modified xsi:type="dcterms:W3CDTF">2013-03-08T13:23:23Z</dcterms:modified>
  <cp:revision>17</cp:revision>
  <dc:subject/>
  <dc:title>Revolutions</dc:title>
</cp:coreProperties>
</file>